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254-A04C-45E2-9F86-9C5FDAA3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627-D597-4E7F-A099-BE700DE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FDE-D0DE-45F8-ABCD-049BECF6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12C-0BBD-4926-A0B1-1BE14C8E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9C27-66DD-4C0B-9EA2-92E96892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D8A7-2861-4403-BA27-3F3354C3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C4F-13EF-48D4-B6DD-5E58A1C0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F138-07EA-47D3-942B-780977C4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AD3-88F6-4C8B-ACC5-D7928526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F52-8853-4AE1-9441-80C4E07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551-06C1-4D6B-AA0C-1825792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2BA-53B5-466C-A2E3-5F8EF1EC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66C-FA9E-48A2-96C3-BF5EF77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B12-58AD-4758-8AF3-5462F0E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A3EC-1EE0-4C0D-A33F-940392F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D2D3-2648-4669-BD5C-0DF83007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168D-3E6F-42DC-8878-5A840F4B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18F-5A4D-4346-B3C7-22E4C57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6B8-1343-46DD-B144-3A5909F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78E-4478-4042-AFBA-74F2AA3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374-17FA-4FA9-9D5E-03DAAE8F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9FC-433D-4238-B852-034987B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B21-4076-4688-9D7B-285E36F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6F9-6F47-4DB3-AE35-9681475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60D8-6A7F-40DA-B617-E4113B359337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25D-AEF8-4C3B-ACE9-53027657DD13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sa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ža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оц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Тања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Лукови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08560" y="808920"/>
            <a:ext cx="783108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ev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luži da pripremi sportistu z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nt,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poveća mehaničku efikasnost tela sporti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posredno pred aktuelno zbivan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h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li krać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al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10–20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vršnije,  brže od pulsa,na specifične mišićne gru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ože početi na najaktivnijim mišićima, pa prelazi na manje aktiv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koristi hvatove sa jačim pritiskom,nego než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tretching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ažnih mišićnih grupa i fascija,da olakša pokretljivost i u zglob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erevent massa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nosi se na takmi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j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 ili kad zbivanje traje nekoliko d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manjuje nepotrbnu tenziju i pomaže sportisti da se pripre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–15 min tr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laga,udobna i podsticajna za sportist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sirana na najvažnije mišićne grupe za svaki sport pojedinač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mbinacij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e  and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event mass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event massage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20 min cool-down routine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 završetk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se longer sports ev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i znake hipotermije ili hipertermi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rtista mora da se hidrira pre i u toku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vent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gotivu dugotrajnih ili dogadjaja na visokoj temperat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masiraju se duboko postavljena tk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graničena je na maximanih 15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24289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Blago i srednje istezanje je uključeno u masaž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ntraindikacije za masažu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brilna st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utn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lje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tvorene rane i up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uboka masaža direktno na varikozne ve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lebothromb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žne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ontraindikaci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ber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loza ili dru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terijs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fe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,Svezi,, koštani prelo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ture  m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šića,tetiva ili ligamenat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rudnoća,naročito u prva tri mese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alignit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vaki fizički ili fiziološki poremećaj koji se može pogoršati spor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</cp:lastModifiedBy>
  <dcterms:modified xsi:type="dcterms:W3CDTF">2014-10-30T12:15:55Z</dcterms:modified>
  <cp:revision>158</cp:revision>
  <dc:subject/>
  <dc:title>PowerPoint Presentation</dc:title>
</cp:coreProperties>
</file>